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05000" y="685440"/>
            <a:ext cx="2448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3177-C08A-4EAA-A80E-422DF689B13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205000" y="685800"/>
            <a:ext cx="2448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.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63D2-9933-4320-A040-E0E809711FA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9898-8A35-460E-BBFE-5767C56F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83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239920"/>
            <a:ext cx="617220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550480"/>
            <a:ext cx="617220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F3E-3CA6-473D-952A-4B8890F8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83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239920"/>
            <a:ext cx="30117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239920"/>
            <a:ext cx="30117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550480"/>
            <a:ext cx="30117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550480"/>
            <a:ext cx="30117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BAD7-675F-45BA-85F3-0B9A093B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83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239920"/>
            <a:ext cx="198720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239920"/>
            <a:ext cx="198720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239920"/>
            <a:ext cx="198720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550480"/>
            <a:ext cx="198720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550480"/>
            <a:ext cx="198720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550480"/>
            <a:ext cx="198720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750-5931-4D84-891B-1C9CFF86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83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239920"/>
            <a:ext cx="617220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D9E0-3901-4428-B083-B9FBF825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83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239920"/>
            <a:ext cx="61722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E8E3-3B96-4987-BD44-2F8A2AE5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83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239920"/>
            <a:ext cx="30117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239920"/>
            <a:ext cx="30117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1275-43AE-4C46-95FD-DAFB8530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83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085-2D75-4820-882F-8E2B081A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83760"/>
            <a:ext cx="61722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EDF-45F2-4A8F-9350-0B31B643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83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239920"/>
            <a:ext cx="30117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239920"/>
            <a:ext cx="30117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550480"/>
            <a:ext cx="30117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AA4-FD1E-4D9C-B201-6D93C22E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83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239920"/>
            <a:ext cx="30117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239920"/>
            <a:ext cx="30117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550480"/>
            <a:ext cx="30117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F19-0631-4A46-910F-B062B567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83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239920"/>
            <a:ext cx="30117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239920"/>
            <a:ext cx="30117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550480"/>
            <a:ext cx="617220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846-6F0F-446F-A89D-19B8356C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83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239920"/>
            <a:ext cx="61722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899560"/>
            <a:ext cx="1600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899560"/>
            <a:ext cx="21715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899560"/>
            <a:ext cx="1600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A858-C9DD-4D11-9922-40898DBCC13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601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"/>
          <p:cNvSpPr/>
          <p:nvPr/>
        </p:nvSpPr>
        <p:spPr>
          <a:xfrm>
            <a:off x="4952880" y="20520"/>
            <a:ext cx="1905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3720"/>
                <a:tab algn="l" pos="1446120"/>
                <a:tab algn="l" pos="1928880"/>
                <a:tab algn="l" pos="2411280"/>
                <a:tab algn="l" pos="2894040"/>
                <a:tab algn="l" pos="3376440"/>
                <a:tab algn="l" pos="3859200"/>
                <a:tab algn="l" pos="4343400"/>
                <a:tab algn="l" pos="4824360"/>
                <a:tab algn="l" pos="5307120"/>
                <a:tab algn="l" pos="5789520"/>
                <a:tab algn="l" pos="6272280"/>
                <a:tab algn="l" pos="6754680"/>
                <a:tab algn="l" pos="7237440"/>
                <a:tab algn="l" pos="7719840"/>
                <a:tab algn="l" pos="8202600"/>
                <a:tab algn="l" pos="8686800"/>
                <a:tab algn="l" pos="9167760"/>
                <a:tab algn="l" pos="965052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tom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3720"/>
                <a:tab algn="l" pos="1446120"/>
                <a:tab algn="l" pos="1928880"/>
                <a:tab algn="l" pos="2411280"/>
                <a:tab algn="l" pos="2894040"/>
                <a:tab algn="l" pos="3376440"/>
                <a:tab algn="l" pos="3859200"/>
                <a:tab algn="l" pos="4343400"/>
                <a:tab algn="l" pos="4824360"/>
                <a:tab algn="l" pos="5307120"/>
                <a:tab algn="l" pos="5789520"/>
                <a:tab algn="l" pos="6272280"/>
                <a:tab algn="l" pos="6754680"/>
                <a:tab algn="l" pos="7237440"/>
                <a:tab algn="l" pos="7719840"/>
                <a:tab algn="l" pos="8202600"/>
                <a:tab algn="l" pos="8686800"/>
                <a:tab algn="l" pos="9167760"/>
                <a:tab algn="l" pos="965052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tter and Ener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09480" y="3078000"/>
          <a:ext cx="5715000" cy="2103480"/>
        </p:xfrm>
        <a:graphic>
          <a:graphicData uri="http://schemas.openxmlformats.org/drawingml/2006/table">
            <a:tbl>
              <a:tblPr/>
              <a:tblGrid>
                <a:gridCol w="609840"/>
                <a:gridCol w="582480"/>
                <a:gridCol w="452268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The three smaller components that make up atoms are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neutrons, protons and 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neutrons, electrons and prot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protons, ions and electr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electrons, neutrons and 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601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"/>
          <p:cNvSpPr/>
          <p:nvPr/>
        </p:nvSpPr>
        <p:spPr>
          <a:xfrm>
            <a:off x="4952880" y="20520"/>
            <a:ext cx="1905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3720"/>
                <a:tab algn="l" pos="1446120"/>
                <a:tab algn="l" pos="1928880"/>
                <a:tab algn="l" pos="2411280"/>
                <a:tab algn="l" pos="2894040"/>
                <a:tab algn="l" pos="3376440"/>
                <a:tab algn="l" pos="3859200"/>
                <a:tab algn="l" pos="4343400"/>
                <a:tab algn="l" pos="4824360"/>
                <a:tab algn="l" pos="5307120"/>
                <a:tab algn="l" pos="5789520"/>
                <a:tab algn="l" pos="6272280"/>
                <a:tab algn="l" pos="6754680"/>
                <a:tab algn="l" pos="7237440"/>
                <a:tab algn="l" pos="7719840"/>
                <a:tab algn="l" pos="8202600"/>
                <a:tab algn="l" pos="8686800"/>
                <a:tab algn="l" pos="9167760"/>
                <a:tab algn="l" pos="965052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tom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3720"/>
                <a:tab algn="l" pos="1446120"/>
                <a:tab algn="l" pos="1928880"/>
                <a:tab algn="l" pos="2411280"/>
                <a:tab algn="l" pos="2894040"/>
                <a:tab algn="l" pos="3376440"/>
                <a:tab algn="l" pos="3859200"/>
                <a:tab algn="l" pos="4343400"/>
                <a:tab algn="l" pos="4824360"/>
                <a:tab algn="l" pos="5307120"/>
                <a:tab algn="l" pos="5789520"/>
                <a:tab algn="l" pos="6272280"/>
                <a:tab algn="l" pos="6754680"/>
                <a:tab algn="l" pos="7237440"/>
                <a:tab algn="l" pos="7719840"/>
                <a:tab algn="l" pos="8202600"/>
                <a:tab algn="l" pos="8686800"/>
                <a:tab algn="l" pos="9167760"/>
                <a:tab algn="l" pos="965052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tter and Ener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520" y="3124080"/>
          <a:ext cx="5715000" cy="2286000"/>
        </p:xfrm>
        <a:graphic>
          <a:graphicData uri="http://schemas.openxmlformats.org/drawingml/2006/table">
            <a:tbl>
              <a:tblPr/>
              <a:tblGrid>
                <a:gridCol w="609480"/>
                <a:gridCol w="582480"/>
                <a:gridCol w="452304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0960"/>
                          <a:tab algn="l" pos="963720"/>
                          <a:tab algn="l" pos="1446120"/>
                          <a:tab algn="l" pos="1928880"/>
                          <a:tab algn="l" pos="2411280"/>
                          <a:tab algn="l" pos="2894040"/>
                          <a:tab algn="l" pos="3376440"/>
                          <a:tab algn="l" pos="3859200"/>
                          <a:tab algn="l" pos="4343400"/>
                          <a:tab algn="l" pos="4824360"/>
                          <a:tab algn="l" pos="5307120"/>
                          <a:tab algn="l" pos="5789520"/>
                          <a:tab algn="l" pos="6272280"/>
                          <a:tab algn="l" pos="6754680"/>
                          <a:tab algn="l" pos="7237440"/>
                          <a:tab algn="l" pos="7719840"/>
                          <a:tab algn="l" pos="8202600"/>
                          <a:tab algn="l" pos="8686800"/>
                          <a:tab algn="l" pos="9167760"/>
                          <a:tab algn="l" pos="965052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ch of the following lists the two particles found together inside the nucleus of an atom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0960"/>
                          <a:tab algn="l" pos="963720"/>
                          <a:tab algn="l" pos="1446120"/>
                          <a:tab algn="l" pos="1928880"/>
                          <a:tab algn="l" pos="2411280"/>
                          <a:tab algn="l" pos="2894040"/>
                          <a:tab algn="l" pos="3376440"/>
                          <a:tab algn="l" pos="3859200"/>
                          <a:tab algn="l" pos="4343400"/>
                          <a:tab algn="l" pos="4824360"/>
                          <a:tab algn="l" pos="5307120"/>
                          <a:tab algn="l" pos="5789520"/>
                          <a:tab algn="l" pos="6272280"/>
                          <a:tab algn="l" pos="6754680"/>
                          <a:tab algn="l" pos="7237440"/>
                          <a:tab algn="l" pos="7719840"/>
                          <a:tab algn="l" pos="8202600"/>
                          <a:tab algn="l" pos="8686800"/>
                          <a:tab algn="l" pos="9167760"/>
                          <a:tab algn="l" pos="965052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Photons and 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Neutrons and electr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Protons and neutr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Electrons and prot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60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533520" y="3124080"/>
          <a:ext cx="5715000" cy="2468520"/>
        </p:xfrm>
        <a:graphic>
          <a:graphicData uri="http://schemas.openxmlformats.org/drawingml/2006/table">
            <a:tbl>
              <a:tblPr/>
              <a:tblGrid>
                <a:gridCol w="609480"/>
                <a:gridCol w="582480"/>
                <a:gridCol w="452304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0960"/>
                          <a:tab algn="l" pos="963720"/>
                          <a:tab algn="l" pos="1446120"/>
                          <a:tab algn="l" pos="1928880"/>
                          <a:tab algn="l" pos="2411280"/>
                          <a:tab algn="l" pos="2894040"/>
                          <a:tab algn="l" pos="3376440"/>
                          <a:tab algn="l" pos="3859200"/>
                          <a:tab algn="l" pos="4343400"/>
                          <a:tab algn="l" pos="4824360"/>
                          <a:tab algn="l" pos="5307120"/>
                          <a:tab algn="l" pos="5789520"/>
                          <a:tab algn="l" pos="6272280"/>
                          <a:tab algn="l" pos="6754680"/>
                          <a:tab algn="l" pos="7237440"/>
                          <a:tab algn="l" pos="7719840"/>
                          <a:tab algn="l" pos="8202600"/>
                          <a:tab algn="l" pos="8686800"/>
                          <a:tab algn="l" pos="9167760"/>
                          <a:tab algn="l" pos="965052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A neutral atom has an equal number of positive and negative charges.  If a neutral fluorine atom has 9 protons and 10 neutrons, how many electrons will it have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0960"/>
                          <a:tab algn="l" pos="963720"/>
                          <a:tab algn="l" pos="1446120"/>
                          <a:tab algn="l" pos="1928880"/>
                          <a:tab algn="l" pos="2411280"/>
                          <a:tab algn="l" pos="2894040"/>
                          <a:tab algn="l" pos="3376440"/>
                          <a:tab algn="l" pos="3859200"/>
                          <a:tab algn="l" pos="4343400"/>
                          <a:tab algn="l" pos="4824360"/>
                          <a:tab algn="l" pos="5307120"/>
                          <a:tab algn="l" pos="5789520"/>
                          <a:tab algn="l" pos="6272280"/>
                          <a:tab algn="l" pos="6754680"/>
                          <a:tab algn="l" pos="7237440"/>
                          <a:tab algn="l" pos="7719840"/>
                          <a:tab algn="l" pos="8202600"/>
                          <a:tab algn="l" pos="8686800"/>
                          <a:tab algn="l" pos="9167760"/>
                          <a:tab algn="l" pos="965052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 Box 1"/>
          <p:cNvSpPr/>
          <p:nvPr/>
        </p:nvSpPr>
        <p:spPr>
          <a:xfrm>
            <a:off x="4952880" y="20520"/>
            <a:ext cx="1905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3720"/>
                <a:tab algn="l" pos="1446120"/>
                <a:tab algn="l" pos="1928880"/>
                <a:tab algn="l" pos="2411280"/>
                <a:tab algn="l" pos="2894040"/>
                <a:tab algn="l" pos="3376440"/>
                <a:tab algn="l" pos="3859200"/>
                <a:tab algn="l" pos="4343400"/>
                <a:tab algn="l" pos="4824360"/>
                <a:tab algn="l" pos="5307120"/>
                <a:tab algn="l" pos="5789520"/>
                <a:tab algn="l" pos="6272280"/>
                <a:tab algn="l" pos="6754680"/>
                <a:tab algn="l" pos="7237440"/>
                <a:tab algn="l" pos="7719840"/>
                <a:tab algn="l" pos="8202600"/>
                <a:tab algn="l" pos="8686800"/>
                <a:tab algn="l" pos="9167760"/>
                <a:tab algn="l" pos="965052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tom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3720"/>
                <a:tab algn="l" pos="1446120"/>
                <a:tab algn="l" pos="1928880"/>
                <a:tab algn="l" pos="2411280"/>
                <a:tab algn="l" pos="2894040"/>
                <a:tab algn="l" pos="3376440"/>
                <a:tab algn="l" pos="3859200"/>
                <a:tab algn="l" pos="4343400"/>
                <a:tab algn="l" pos="4824360"/>
                <a:tab algn="l" pos="5307120"/>
                <a:tab algn="l" pos="5789520"/>
                <a:tab algn="l" pos="6272280"/>
                <a:tab algn="l" pos="6754680"/>
                <a:tab algn="l" pos="7237440"/>
                <a:tab algn="l" pos="7719840"/>
                <a:tab algn="l" pos="8202600"/>
                <a:tab algn="l" pos="8686800"/>
                <a:tab algn="l" pos="9167760"/>
                <a:tab algn="l" pos="965052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tter and Ener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601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"/>
          <p:cNvSpPr/>
          <p:nvPr/>
        </p:nvSpPr>
        <p:spPr>
          <a:xfrm>
            <a:off x="4952880" y="20520"/>
            <a:ext cx="1905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3720"/>
                <a:tab algn="l" pos="1446120"/>
                <a:tab algn="l" pos="1928880"/>
                <a:tab algn="l" pos="2411280"/>
                <a:tab algn="l" pos="2894040"/>
                <a:tab algn="l" pos="3376440"/>
                <a:tab algn="l" pos="3859200"/>
                <a:tab algn="l" pos="4343400"/>
                <a:tab algn="l" pos="4824360"/>
                <a:tab algn="l" pos="5307120"/>
                <a:tab algn="l" pos="5789520"/>
                <a:tab algn="l" pos="6272280"/>
                <a:tab algn="l" pos="6754680"/>
                <a:tab algn="l" pos="7237440"/>
                <a:tab algn="l" pos="7719840"/>
                <a:tab algn="l" pos="8202600"/>
                <a:tab algn="l" pos="8686800"/>
                <a:tab algn="l" pos="9167760"/>
                <a:tab algn="l" pos="965052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tom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3720"/>
                <a:tab algn="l" pos="1446120"/>
                <a:tab algn="l" pos="1928880"/>
                <a:tab algn="l" pos="2411280"/>
                <a:tab algn="l" pos="2894040"/>
                <a:tab algn="l" pos="3376440"/>
                <a:tab algn="l" pos="3859200"/>
                <a:tab algn="l" pos="4343400"/>
                <a:tab algn="l" pos="4824360"/>
                <a:tab algn="l" pos="5307120"/>
                <a:tab algn="l" pos="5789520"/>
                <a:tab algn="l" pos="6272280"/>
                <a:tab algn="l" pos="6754680"/>
                <a:tab algn="l" pos="7237440"/>
                <a:tab algn="l" pos="7719840"/>
                <a:tab algn="l" pos="8202600"/>
                <a:tab algn="l" pos="8686800"/>
                <a:tab algn="l" pos="9167760"/>
                <a:tab algn="l" pos="965052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tter and Ener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3124080"/>
          <a:ext cx="5224320" cy="246852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  <a:gridCol w="4081320"/>
              </a:tblGrid>
              <a:tr h="82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0960"/>
                          <a:tab algn="l" pos="963720"/>
                          <a:tab algn="l" pos="1446120"/>
                          <a:tab algn="l" pos="1928880"/>
                          <a:tab algn="l" pos="2411280"/>
                          <a:tab algn="l" pos="2894040"/>
                          <a:tab algn="l" pos="3376440"/>
                          <a:tab algn="l" pos="3859200"/>
                          <a:tab algn="l" pos="4343400"/>
                          <a:tab algn="l" pos="4824360"/>
                          <a:tab algn="l" pos="5307120"/>
                          <a:tab algn="l" pos="5789520"/>
                          <a:tab algn="l" pos="6272280"/>
                          <a:tab algn="l" pos="6754680"/>
                          <a:tab algn="l" pos="7237440"/>
                          <a:tab algn="l" pos="7719840"/>
                          <a:tab algn="l" pos="8202600"/>
                          <a:tab algn="l" pos="8686800"/>
                          <a:tab algn="l" pos="9167760"/>
                          <a:tab algn="l" pos="965052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If an atom has six positively charged subatomic particles, which of the following must it also have in order to become a neutral atom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0960"/>
                          <a:tab algn="l" pos="963720"/>
                          <a:tab algn="l" pos="1446120"/>
                          <a:tab algn="l" pos="1928880"/>
                          <a:tab algn="l" pos="2411280"/>
                          <a:tab algn="l" pos="2894040"/>
                          <a:tab algn="l" pos="3376440"/>
                          <a:tab algn="l" pos="3859200"/>
                          <a:tab algn="l" pos="4343400"/>
                          <a:tab algn="l" pos="4824360"/>
                          <a:tab algn="l" pos="5307120"/>
                          <a:tab algn="l" pos="5789520"/>
                          <a:tab algn="l" pos="6272280"/>
                          <a:tab algn="l" pos="6754680"/>
                          <a:tab algn="l" pos="7237440"/>
                          <a:tab algn="l" pos="7719840"/>
                          <a:tab algn="l" pos="8202600"/>
                          <a:tab algn="l" pos="8686800"/>
                          <a:tab algn="l" pos="9167760"/>
                          <a:tab algn="l" pos="965052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row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Twelve prot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Six neutr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Three electr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MS PGothic"/>
                        </a:rPr>
                        <a:t>Six electr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60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533520" y="3124080"/>
          <a:ext cx="5715000" cy="2286000"/>
        </p:xfrm>
        <a:graphic>
          <a:graphicData uri="http://schemas.openxmlformats.org/drawingml/2006/table">
            <a:tbl>
              <a:tblPr/>
              <a:tblGrid>
                <a:gridCol w="533160"/>
                <a:gridCol w="658800"/>
                <a:gridCol w="452304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0960"/>
                          <a:tab algn="l" pos="963720"/>
                          <a:tab algn="l" pos="1446120"/>
                          <a:tab algn="l" pos="1928880"/>
                          <a:tab algn="l" pos="2411280"/>
                          <a:tab algn="l" pos="2894040"/>
                          <a:tab algn="l" pos="3376440"/>
                          <a:tab algn="l" pos="3859200"/>
                          <a:tab algn="l" pos="4343400"/>
                          <a:tab algn="l" pos="4824360"/>
                          <a:tab algn="l" pos="5307120"/>
                          <a:tab algn="l" pos="5789520"/>
                          <a:tab algn="l" pos="6272280"/>
                          <a:tab algn="l" pos="6754680"/>
                          <a:tab algn="l" pos="7237440"/>
                          <a:tab algn="l" pos="7719840"/>
                          <a:tab algn="l" pos="8202600"/>
                          <a:tab algn="l" pos="8686800"/>
                          <a:tab algn="l" pos="9167760"/>
                          <a:tab algn="l" pos="965052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f you change the number of neutrons in an atom, you will also change its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0960"/>
                          <a:tab algn="l" pos="963720"/>
                          <a:tab algn="l" pos="1446120"/>
                          <a:tab algn="l" pos="1928880"/>
                          <a:tab algn="l" pos="2411280"/>
                          <a:tab algn="l" pos="2894040"/>
                          <a:tab algn="l" pos="3376440"/>
                          <a:tab algn="l" pos="3859200"/>
                          <a:tab algn="l" pos="4343400"/>
                          <a:tab algn="l" pos="4824360"/>
                          <a:tab algn="l" pos="5307120"/>
                          <a:tab algn="l" pos="5789520"/>
                          <a:tab algn="l" pos="6272280"/>
                          <a:tab algn="l" pos="6754680"/>
                          <a:tab algn="l" pos="7237440"/>
                          <a:tab algn="l" pos="7719840"/>
                          <a:tab algn="l" pos="8202600"/>
                          <a:tab algn="l" pos="8686800"/>
                          <a:tab algn="l" pos="9167760"/>
                          <a:tab algn="l" pos="965052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rg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m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b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oto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1"/>
          <p:cNvSpPr/>
          <p:nvPr/>
        </p:nvSpPr>
        <p:spPr>
          <a:xfrm>
            <a:off x="4952880" y="20520"/>
            <a:ext cx="1905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3720"/>
                <a:tab algn="l" pos="1446120"/>
                <a:tab algn="l" pos="1928880"/>
                <a:tab algn="l" pos="2411280"/>
                <a:tab algn="l" pos="2894040"/>
                <a:tab algn="l" pos="3376440"/>
                <a:tab algn="l" pos="3859200"/>
                <a:tab algn="l" pos="4343400"/>
                <a:tab algn="l" pos="4824360"/>
                <a:tab algn="l" pos="5307120"/>
                <a:tab algn="l" pos="5789520"/>
                <a:tab algn="l" pos="6272280"/>
                <a:tab algn="l" pos="6754680"/>
                <a:tab algn="l" pos="7237440"/>
                <a:tab algn="l" pos="7719840"/>
                <a:tab algn="l" pos="8202600"/>
                <a:tab algn="l" pos="8686800"/>
                <a:tab algn="l" pos="9167760"/>
                <a:tab algn="l" pos="965052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tom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3720"/>
                <a:tab algn="l" pos="1446120"/>
                <a:tab algn="l" pos="1928880"/>
                <a:tab algn="l" pos="2411280"/>
                <a:tab algn="l" pos="2894040"/>
                <a:tab algn="l" pos="3376440"/>
                <a:tab algn="l" pos="3859200"/>
                <a:tab algn="l" pos="4343400"/>
                <a:tab algn="l" pos="4824360"/>
                <a:tab algn="l" pos="5307120"/>
                <a:tab algn="l" pos="5789520"/>
                <a:tab algn="l" pos="6272280"/>
                <a:tab algn="l" pos="6754680"/>
                <a:tab algn="l" pos="7237440"/>
                <a:tab algn="l" pos="7719840"/>
                <a:tab algn="l" pos="8202600"/>
                <a:tab algn="l" pos="8686800"/>
                <a:tab algn="l" pos="9167760"/>
                <a:tab algn="l" pos="965052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tter and Ener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30T20:39:50Z</dcterms:created>
  <dc:creator>Ryan</dc:creator>
  <dc:description/>
  <dc:language>en-US</dc:language>
  <cp:lastModifiedBy>Kara Jordan</cp:lastModifiedBy>
  <dcterms:modified xsi:type="dcterms:W3CDTF">2015-08-18T23:38:48Z</dcterms:modified>
  <cp:revision>28</cp:revision>
  <dc:subject/>
  <dc:title>PowerPoint Presentation</dc:title>
</cp:coreProperties>
</file>